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AE6D-7D6F-4B97-BC45-EAE91D70A1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6428-F6D9-4BEC-AF4E-8B120A949D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05A7-C282-4573-A94F-EE658617AE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59B3-FEF5-46EF-83B5-D952344531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B9E7-1D37-4082-930A-DF5F122A50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AAD8-A534-443D-95CD-EA302EBDAC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E84F-A320-4F0C-B135-9DF73F0CAC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FE94-62C4-461D-9846-06264FE5E5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7BFF-E476-45D6-8EC2-ACDF2C0717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BBB6-A228-4FB8-9B8A-4F2B90997C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39EA-EA25-4A47-960D-D99180ACAC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3D29-4D8F-4969-95EF-C1EB08621A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A886-884B-4260-B9E9-EB3FCD29BF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A629-D848-4806-9ACF-E7238FE75B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F8A7-00B0-4910-BEFA-D889ED4941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AFCA-D8B1-4D7F-B767-7FE64A7188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0C66-4E19-42F1-906C-52C2BA7FC3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9557-B949-403E-AE4E-6A9153CEFF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1E0E-8C2A-4A3C-B69A-2EFF5342F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A8FD-E34E-4EFD-922E-4A935288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9540-5E50-4D5A-A4ED-959DCFEA3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9175-91B7-444B-AF95-018BE2DA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4C99-81FE-40C4-B4C4-9DDA6669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CBA5-1F1C-43AE-994A-CBA6DE51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F4D3-150E-4C3C-930B-F903027E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1082-D785-4CBC-A8E6-9D5889ED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0160-09A2-4933-B583-C0134EA0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FA9F-5D82-4A39-A3B0-5AE67D4B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C000-32C6-4617-A1AA-640CAC21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944A-D63D-4A77-B518-540612BE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EA46-E007-49A7-8BD7-84A611AEF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500" spc="-1" strike="noStrike">
                <a:solidFill>
                  <a:srgbClr val="000000"/>
                </a:solidFill>
                <a:latin typeface="Calibri"/>
              </a:rPr>
              <a:t>Solfege 1.6 La - La</a:t>
            </a:r>
            <a:endParaRPr b="0" lang="en-US" sz="1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Preview image of file"/>
          <p:cNvPicPr/>
          <p:nvPr/>
        </p:nvPicPr>
        <p:blipFill>
          <a:blip r:embed="rId1"/>
          <a:stretch/>
        </p:blipFill>
        <p:spPr>
          <a:xfrm>
            <a:off x="2895480" y="380880"/>
            <a:ext cx="4260960" cy="4267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L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High La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99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Preview image of file"/>
          <p:cNvPicPr/>
          <p:nvPr/>
        </p:nvPicPr>
        <p:blipFill>
          <a:blip r:embed="rId1"/>
          <a:stretch/>
        </p:blipFill>
        <p:spPr>
          <a:xfrm>
            <a:off x="2895480" y="380880"/>
            <a:ext cx="4260960" cy="42674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L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High La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995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Preview image of file"/>
          <p:cNvPicPr/>
          <p:nvPr/>
        </p:nvPicPr>
        <p:blipFill>
          <a:blip r:embed="rId1"/>
          <a:stretch/>
        </p:blipFill>
        <p:spPr>
          <a:xfrm>
            <a:off x="2438280" y="228600"/>
            <a:ext cx="4114800" cy="41212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So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005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Preview image of file"/>
          <p:cNvPicPr/>
          <p:nvPr/>
        </p:nvPicPr>
        <p:blipFill>
          <a:blip r:embed="rId1"/>
          <a:stretch/>
        </p:blipFill>
        <p:spPr>
          <a:xfrm>
            <a:off x="2590920" y="0"/>
            <a:ext cx="4343400" cy="4321080"/>
          </a:xfrm>
          <a:prstGeom prst="rect">
            <a:avLst/>
          </a:prstGeom>
          <a:ln w="0">
            <a:noFill/>
          </a:ln>
        </p:spPr>
      </p:pic>
      <p:pic>
        <p:nvPicPr>
          <p:cNvPr id="82" name="Fa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009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9680" y="22860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Mi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02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22860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Re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023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Preview image of file"/>
          <p:cNvPicPr/>
          <p:nvPr/>
        </p:nvPicPr>
        <p:blipFill>
          <a:blip r:embed="rId1"/>
          <a:stretch/>
        </p:blipFill>
        <p:spPr>
          <a:xfrm>
            <a:off x="1905120" y="0"/>
            <a:ext cx="5105160" cy="5168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Do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989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533520"/>
            <a:ext cx="4343400" cy="43495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T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Ti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32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Preview image of file"/>
          <p:cNvPicPr/>
          <p:nvPr/>
        </p:nvPicPr>
        <p:blipFill>
          <a:blip r:embed="rId1"/>
          <a:stretch/>
        </p:blipFill>
        <p:spPr>
          <a:xfrm>
            <a:off x="2895480" y="380880"/>
            <a:ext cx="4260960" cy="42674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L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La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017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90788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Preview image of file"/>
          <p:cNvPicPr/>
          <p:nvPr/>
        </p:nvPicPr>
        <p:blipFill>
          <a:blip r:embed="rId1"/>
          <a:stretch/>
        </p:blipFill>
        <p:spPr>
          <a:xfrm>
            <a:off x="2895480" y="380880"/>
            <a:ext cx="4260960" cy="4267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L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La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17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533520"/>
            <a:ext cx="4343400" cy="43495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T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Ti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32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Preview image of file"/>
          <p:cNvPicPr/>
          <p:nvPr/>
        </p:nvPicPr>
        <p:blipFill>
          <a:blip r:embed="rId1"/>
          <a:stretch/>
        </p:blipFill>
        <p:spPr>
          <a:xfrm>
            <a:off x="1905120" y="0"/>
            <a:ext cx="5105160" cy="5168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Do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989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22860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Re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23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9680" y="22860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Mi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2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Preview image of file"/>
          <p:cNvPicPr/>
          <p:nvPr/>
        </p:nvPicPr>
        <p:blipFill>
          <a:blip r:embed="rId1"/>
          <a:stretch/>
        </p:blipFill>
        <p:spPr>
          <a:xfrm>
            <a:off x="2590920" y="0"/>
            <a:ext cx="4343400" cy="4321080"/>
          </a:xfrm>
          <a:prstGeom prst="rect">
            <a:avLst/>
          </a:prstGeom>
          <a:ln w="0">
            <a:noFill/>
          </a:ln>
        </p:spPr>
      </p:pic>
      <p:pic>
        <p:nvPicPr>
          <p:cNvPr id="67" name="Fa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9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Preview image of file"/>
          <p:cNvPicPr/>
          <p:nvPr/>
        </p:nvPicPr>
        <p:blipFill>
          <a:blip r:embed="rId1"/>
          <a:stretch/>
        </p:blipFill>
        <p:spPr>
          <a:xfrm>
            <a:off x="2438280" y="228600"/>
            <a:ext cx="4114800" cy="41212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So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05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0:09:54Z</dcterms:created>
  <dc:creator>halo</dc:creator>
  <dc:description/>
  <dc:language>en-US</dc:language>
  <cp:lastModifiedBy>Lee</cp:lastModifiedBy>
  <dcterms:modified xsi:type="dcterms:W3CDTF">2012-04-22T05:13:19Z</dcterms:modified>
  <cp:revision>146</cp:revision>
  <dc:subject/>
  <dc:title>Do</dc:title>
</cp:coreProperties>
</file>