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D77-B58A-42EE-BC3E-3F975AC25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7D75-C88F-48F5-ADD0-B82C4109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090-8637-4C3D-89EA-44DB7668F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653-F31A-4C54-8E4D-AE8279DE8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52D8-FF3D-424E-A9C9-C99964188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72C-0F73-43F5-AA51-F52B0EB91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B81-4C31-4C06-9234-ACBAE9880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15C-AB3D-4F54-B105-119D27459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7BE-351C-41A0-AE99-0A0B27332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CF2-48C3-4C28-A520-A9DFEB236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E9E2-939C-4AC1-8947-B9578A35A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BF8-59D5-4DD6-AB65-245D0033B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F29-7BEE-45A1-A95C-7D30A7E8B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435-E0D6-42BA-86C0-DBA769722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00A-B06D-45D5-9F89-504B6D4C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CF1A-90F6-49D8-8552-A395CFA7E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3F98-BAA2-4C47-8D0C-ACCA54656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CF8B-8E8F-4FEE-BF35-54056205E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3ED-3C80-495C-92AF-7C7D4F4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6E0-168A-479A-AF35-F286326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3CF-1B74-4812-A4F7-F934C664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C51-B532-4347-A468-CA10C949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B5F-C41E-4481-9D6C-0CA581D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113-52EE-4ADE-BB13-43ADC6E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EB2-B37E-4BDD-9184-B53F4E88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AD3-CFF9-40BC-85F8-53656E4D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93D-D630-490C-90EA-0BAC154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AC4-56BF-4345-A8A2-77C7489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D48-143B-40D0-83B4-B9A3DFEA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57A-2678-4EC4-B5A6-A5D0C67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2AB3-7715-443F-969C-F5B80E62D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5 Sol - Sol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4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9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4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1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7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4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1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0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3-03T20:47:20Z</dcterms:modified>
  <cp:revision>137</cp:revision>
  <dc:subject/>
  <dc:title>Do</dc:title>
</cp:coreProperties>
</file>