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E947-62A7-4497-B192-C3CE2C21C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2BC3-A693-4CE1-8AA4-8D3F69208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3F6F-A199-4141-8C7F-347582AB3C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36AE-D0D0-4D05-8C63-D0E867F80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712F-7789-4336-9133-218D342101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5FC1-B245-4ABC-BEFC-6776F0C614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0619-FD8F-4C9A-AA40-2B9EED7705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7299-4E12-4259-929F-4AA872D29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0943-B32B-41E0-BF80-51CA13CD41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2646-27FF-42EE-9B80-3E2D0A22F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63BD-4C22-4E81-BEEA-85B792659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926C-9BB3-4F5C-A8F6-309C119E1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2EE0-EF81-4C19-909B-8A4FDB34E0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9EDA-70F7-4471-AC66-62AAA0D86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8076-62EF-40E6-8DEB-D198F3346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0400-FB60-4E6D-910C-2F312AE403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764F-D933-4979-9348-3DD80A621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5AF0-D76E-4EFB-A4AA-4B9D2C6C0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F7CD-97BD-4DDF-985A-E7FD1BBC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74AC-BEDC-439C-B03E-F99EC5EB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E755-066E-470F-8DDE-09C07026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0FE4-7372-4698-B39F-803ED4B8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69AF-9975-420F-B0A1-7C2791B9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9AE3-FED2-49D4-9769-D5938783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C140-2A9A-4E8F-ADC4-7A2F427E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A09D-A176-472B-8C64-D0A35E8C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E6DF-1DE8-4E92-89B9-9DD77663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68B2-896D-492F-8A04-D3BA78F2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4C64-D787-4096-8F5A-A323B213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3226-7CC9-4212-A32E-619CBD94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23F1-1F67-43D8-9B4C-3E2BA103A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000000"/>
                </a:solidFill>
                <a:latin typeface="Calibri"/>
              </a:rPr>
              <a:t>Solfege 1.3 Mi- Mi</a:t>
            </a:r>
            <a:endParaRPr b="0" lang="en-US" sz="1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9680" y="228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High Mi_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907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9680" y="228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High Mi_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907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Music Alphabet Re_5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37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Preview image of file"/>
          <p:cNvPicPr/>
          <p:nvPr/>
        </p:nvPicPr>
        <p:blipFill>
          <a:blip r:embed="rId1"/>
          <a:stretch/>
        </p:blipFill>
        <p:spPr>
          <a:xfrm>
            <a:off x="1905120" y="0"/>
            <a:ext cx="5105160" cy="5168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Music Alphabet Do_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37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533520"/>
            <a:ext cx="4343400" cy="4349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T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Music Alphabet Ti_7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37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Preview image of file"/>
          <p:cNvPicPr/>
          <p:nvPr/>
        </p:nvPicPr>
        <p:blipFill>
          <a:blip r:embed="rId1"/>
          <a:stretch/>
        </p:blipFill>
        <p:spPr>
          <a:xfrm>
            <a:off x="2895480" y="380880"/>
            <a:ext cx="4260960" cy="4267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Music Alphabet La_3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88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Preview image of file"/>
          <p:cNvPicPr/>
          <p:nvPr/>
        </p:nvPicPr>
        <p:blipFill>
          <a:blip r:embed="rId1"/>
          <a:stretch/>
        </p:blipFill>
        <p:spPr>
          <a:xfrm>
            <a:off x="2438280" y="228600"/>
            <a:ext cx="4114800" cy="4121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Music Alphabet Sol_6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14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Preview image of file"/>
          <p:cNvPicPr/>
          <p:nvPr/>
        </p:nvPicPr>
        <p:blipFill>
          <a:blip r:embed="rId1"/>
          <a:stretch/>
        </p:blipFill>
        <p:spPr>
          <a:xfrm>
            <a:off x="2590920" y="0"/>
            <a:ext cx="4343400" cy="4321080"/>
          </a:xfrm>
          <a:prstGeom prst="rect">
            <a:avLst/>
          </a:prstGeom>
          <a:ln w="0">
            <a:noFill/>
          </a:ln>
        </p:spPr>
      </p:pic>
      <p:pic>
        <p:nvPicPr>
          <p:cNvPr id="94" name="Music Alphabet Fa_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72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9680" y="228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Music Alphabet Mi_4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12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078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9680" y="228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Music Alphabet Mi_4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1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Preview image of file"/>
          <p:cNvPicPr/>
          <p:nvPr/>
        </p:nvPicPr>
        <p:blipFill>
          <a:blip r:embed="rId1"/>
          <a:stretch/>
        </p:blipFill>
        <p:spPr>
          <a:xfrm>
            <a:off x="2590920" y="0"/>
            <a:ext cx="4343400" cy="4321080"/>
          </a:xfrm>
          <a:prstGeom prst="rect">
            <a:avLst/>
          </a:prstGeom>
          <a:ln w="0">
            <a:noFill/>
          </a:ln>
        </p:spPr>
      </p:pic>
      <p:pic>
        <p:nvPicPr>
          <p:cNvPr id="55" name="Music Alphabet Fa_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25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Preview image of file"/>
          <p:cNvPicPr/>
          <p:nvPr/>
        </p:nvPicPr>
        <p:blipFill>
          <a:blip r:embed="rId1"/>
          <a:stretch/>
        </p:blipFill>
        <p:spPr>
          <a:xfrm>
            <a:off x="2438280" y="228600"/>
            <a:ext cx="4114800" cy="4121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Music Alphabet Sol_6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143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Preview image of file"/>
          <p:cNvPicPr/>
          <p:nvPr/>
        </p:nvPicPr>
        <p:blipFill>
          <a:blip r:embed="rId1"/>
          <a:stretch/>
        </p:blipFill>
        <p:spPr>
          <a:xfrm>
            <a:off x="2895480" y="380880"/>
            <a:ext cx="4260960" cy="4267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Music Alphabet La_3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88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533520"/>
            <a:ext cx="4343400" cy="4349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T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Music Alphabet Ti_7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37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Preview image of file"/>
          <p:cNvPicPr/>
          <p:nvPr/>
        </p:nvPicPr>
        <p:blipFill>
          <a:blip r:embed="rId1"/>
          <a:stretch/>
        </p:blipFill>
        <p:spPr>
          <a:xfrm>
            <a:off x="1905120" y="0"/>
            <a:ext cx="5105160" cy="5168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Music Alphabet Do_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37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Music Alphabet Re_5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37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0:09:54Z</dcterms:created>
  <dc:creator>halo</dc:creator>
  <dc:description/>
  <dc:language>en-US</dc:language>
  <cp:lastModifiedBy>Lee</cp:lastModifiedBy>
  <dcterms:modified xsi:type="dcterms:W3CDTF">2012-01-31T09:34:27Z</dcterms:modified>
  <cp:revision>129</cp:revision>
  <dc:subject/>
  <dc:title>Do</dc:title>
</cp:coreProperties>
</file>