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75A8-1A97-4DBB-93B8-8BC68D8AD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BE3-F24E-4F20-B6C4-D44B5E6A0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083-73EF-4013-9930-FFC23F0E6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9316-7DA2-4327-B019-E61384C3F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3BCC-84F5-40A0-914F-A665F5140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A71E-4373-4AE1-AF64-EC6A91C7F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2D59-A9A0-43AB-9DCF-AE23F2FD8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E48F-02C3-4BE4-BE7A-10E297A7C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4ECF-4B11-45B4-9C2A-4CD45A22C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F7F1-5163-4026-B882-1E4C65BB3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959-BC9A-4D56-BC05-F77EB03EE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D56D-0087-4F02-920B-2F51978C5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C056-6A24-4D81-84E8-5B2A98AB0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382-9D48-4E71-BD17-E6E9E21D1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4AA-165B-4D34-A535-45A5B4A5F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00C-557D-42B7-B8A8-80C901BC4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FB68-6FD3-4F84-AF1A-0A8F15567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2DA0-6D49-4BF6-BD79-9027819D2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A9A-C19E-428B-B3C6-F82F1AB1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02E-CDCF-439D-BE06-DE985148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D91-DD86-4C18-830A-EA95F498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3F2-FFF1-48F1-9318-F9573EA1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2DA-7750-49FF-AB76-D472BF1B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909-2345-4D7E-81D9-B9F09B1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118-5CA6-4854-BC6A-45DCF168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FA7-EFC1-428E-B1D2-A727A571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07A-05DA-45DA-A56C-ABC78EA3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AFD-AF1C-40C3-A79E-9A762DA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A62-172F-4917-86BB-8D47C8C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C2A-F0E0-4735-8144-49AB98D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ED0-A3EA-4165-B85A-2B22E87BD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Solfege 1.5a Sol - So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27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7010280" y="1371600"/>
            <a:ext cx="2133720" cy="3048120"/>
            <a:chOff x="7010280" y="1371600"/>
            <a:chExt cx="2133720" cy="3048120"/>
          </a:xfrm>
        </p:grpSpPr>
        <p:sp>
          <p:nvSpPr>
            <p:cNvPr id="134" name="Oval 15"/>
            <p:cNvSpPr/>
            <p:nvPr/>
          </p:nvSpPr>
          <p:spPr>
            <a:xfrm>
              <a:off x="7010280" y="1371600"/>
              <a:ext cx="21337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7418520" y="1743480"/>
              <a:ext cx="133524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38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7010280" y="1371600"/>
            <a:ext cx="2133720" cy="3048120"/>
            <a:chOff x="7010280" y="1371600"/>
            <a:chExt cx="2133720" cy="3048120"/>
          </a:xfrm>
        </p:grpSpPr>
        <p:sp>
          <p:nvSpPr>
            <p:cNvPr id="145" name="Oval 15"/>
            <p:cNvSpPr/>
            <p:nvPr/>
          </p:nvSpPr>
          <p:spPr>
            <a:xfrm>
              <a:off x="7010280" y="1371600"/>
              <a:ext cx="21337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7418520" y="1743480"/>
              <a:ext cx="133524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High sol.wav" descr=""/>
          <p:cNvPicPr/>
          <p:nvPr/>
        </p:nvPicPr>
        <p:blipFill>
          <a:blip r:embed="rId2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45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0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49" name="Rectangle 11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23"/>
          <p:cNvGrpSpPr/>
          <p:nvPr/>
        </p:nvGrpSpPr>
        <p:grpSpPr>
          <a:xfrm>
            <a:off x="6248520" y="1371600"/>
            <a:ext cx="2514600" cy="3048120"/>
            <a:chOff x="6248520" y="1371600"/>
            <a:chExt cx="2514600" cy="3048120"/>
          </a:xfrm>
        </p:grpSpPr>
        <p:sp>
          <p:nvSpPr>
            <p:cNvPr id="156" name="Oval 15"/>
            <p:cNvSpPr/>
            <p:nvPr/>
          </p:nvSpPr>
          <p:spPr>
            <a:xfrm>
              <a:off x="6248520" y="1371600"/>
              <a:ext cx="251460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473880" y="2127600"/>
              <a:ext cx="2079000" cy="161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4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60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0"/>
          <p:cNvGrpSpPr/>
          <p:nvPr/>
        </p:nvGrpSpPr>
        <p:grpSpPr>
          <a:xfrm>
            <a:off x="5486400" y="1295280"/>
            <a:ext cx="2362320" cy="3048120"/>
            <a:chOff x="5486400" y="1295280"/>
            <a:chExt cx="2362320" cy="3048120"/>
          </a:xfrm>
        </p:grpSpPr>
        <p:sp>
          <p:nvSpPr>
            <p:cNvPr id="166" name="Oval 15"/>
            <p:cNvSpPr/>
            <p:nvPr/>
          </p:nvSpPr>
          <p:spPr>
            <a:xfrm>
              <a:off x="54864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2" descr="C:\Users\Lee\Documents\Baby education resources\Music\solfege Mi image.gif"/>
            <p:cNvPicPr/>
            <p:nvPr/>
          </p:nvPicPr>
          <p:blipFill>
            <a:blip r:embed="rId1"/>
            <a:stretch/>
          </p:blipFill>
          <p:spPr>
            <a:xfrm>
              <a:off x="5864400" y="1798200"/>
              <a:ext cx="1609560" cy="20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1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71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4724280" y="1676520"/>
            <a:ext cx="2514600" cy="2971800"/>
            <a:chOff x="4724280" y="1676520"/>
            <a:chExt cx="2514600" cy="2971800"/>
          </a:xfrm>
        </p:grpSpPr>
        <p:sp>
          <p:nvSpPr>
            <p:cNvPr id="178" name="Oval 15"/>
            <p:cNvSpPr/>
            <p:nvPr/>
          </p:nvSpPr>
          <p:spPr>
            <a:xfrm>
              <a:off x="4724280" y="16765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5102280" y="220680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82" name="Rectangle 14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25"/>
          <p:cNvGrpSpPr/>
          <p:nvPr/>
        </p:nvGrpSpPr>
        <p:grpSpPr>
          <a:xfrm>
            <a:off x="3886200" y="1295280"/>
            <a:ext cx="2362320" cy="3048120"/>
            <a:chOff x="3886200" y="1295280"/>
            <a:chExt cx="2362320" cy="3048120"/>
          </a:xfrm>
        </p:grpSpPr>
        <p:sp>
          <p:nvSpPr>
            <p:cNvPr id="189" name="Oval 15"/>
            <p:cNvSpPr/>
            <p:nvPr/>
          </p:nvSpPr>
          <p:spPr>
            <a:xfrm>
              <a:off x="3886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340160" y="1901880"/>
              <a:ext cx="145692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27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3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93" name="Rectangle 16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13"/>
          <p:cNvGrpSpPr/>
          <p:nvPr/>
        </p:nvGrpSpPr>
        <p:grpSpPr>
          <a:xfrm>
            <a:off x="2895480" y="1295280"/>
            <a:ext cx="2667240" cy="3048120"/>
            <a:chOff x="2895480" y="1295280"/>
            <a:chExt cx="2667240" cy="3048120"/>
          </a:xfrm>
        </p:grpSpPr>
        <p:sp>
          <p:nvSpPr>
            <p:cNvPr id="200" name="Oval 15"/>
            <p:cNvSpPr/>
            <p:nvPr/>
          </p:nvSpPr>
          <p:spPr>
            <a:xfrm>
              <a:off x="2895480" y="1295280"/>
              <a:ext cx="266724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133080" y="2054160"/>
              <a:ext cx="213408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7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204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2"/>
          <p:cNvGrpSpPr/>
          <p:nvPr/>
        </p:nvGrpSpPr>
        <p:grpSpPr>
          <a:xfrm>
            <a:off x="2286000" y="1600200"/>
            <a:ext cx="2362320" cy="3048120"/>
            <a:chOff x="2286000" y="1600200"/>
            <a:chExt cx="2362320" cy="3048120"/>
          </a:xfrm>
        </p:grpSpPr>
        <p:sp>
          <p:nvSpPr>
            <p:cNvPr id="211" name="Oval 15"/>
            <p:cNvSpPr/>
            <p:nvPr/>
          </p:nvSpPr>
          <p:spPr>
            <a:xfrm>
              <a:off x="2286000" y="160020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664000" y="2054160"/>
              <a:ext cx="160956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4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6"/>
          <p:cNvSpPr/>
          <p:nvPr/>
        </p:nvSpPr>
        <p:spPr>
          <a:xfrm>
            <a:off x="70866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23623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948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9625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55627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1600200" y="1295280"/>
            <a:ext cx="2362320" cy="3048120"/>
            <a:chOff x="1600200" y="1295280"/>
            <a:chExt cx="2362320" cy="3048120"/>
          </a:xfrm>
        </p:grpSpPr>
        <p:sp>
          <p:nvSpPr>
            <p:cNvPr id="221" name="Oval 15"/>
            <p:cNvSpPr/>
            <p:nvPr/>
          </p:nvSpPr>
          <p:spPr>
            <a:xfrm>
              <a:off x="1600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0541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9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70866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23623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60948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39625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55627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1600200" y="1295280"/>
            <a:ext cx="2362320" cy="3048120"/>
            <a:chOff x="1600200" y="1295280"/>
            <a:chExt cx="2362320" cy="3048120"/>
          </a:xfrm>
        </p:grpSpPr>
        <p:sp>
          <p:nvSpPr>
            <p:cNvPr id="57" name="Oval 15"/>
            <p:cNvSpPr/>
            <p:nvPr/>
          </p:nvSpPr>
          <p:spPr>
            <a:xfrm>
              <a:off x="1600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0541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Sol.wav" descr=""/>
          <p:cNvPicPr/>
          <p:nvPr/>
        </p:nvPicPr>
        <p:blipFill>
          <a:blip r:embed="rId2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61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2286000" y="1600200"/>
            <a:ext cx="2362320" cy="3048120"/>
            <a:chOff x="2286000" y="1600200"/>
            <a:chExt cx="2362320" cy="3048120"/>
          </a:xfrm>
        </p:grpSpPr>
        <p:sp>
          <p:nvSpPr>
            <p:cNvPr id="68" name="Oval 15"/>
            <p:cNvSpPr/>
            <p:nvPr/>
          </p:nvSpPr>
          <p:spPr>
            <a:xfrm>
              <a:off x="2286000" y="160020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2664000" y="2054160"/>
              <a:ext cx="160956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la.wav" descr=""/>
          <p:cNvPicPr/>
          <p:nvPr/>
        </p:nvPicPr>
        <p:blipFill>
          <a:blip r:embed="rId2"/>
          <a:stretch/>
        </p:blipFill>
        <p:spPr>
          <a:xfrm>
            <a:off x="-9144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4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72" name="Rectangle 16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5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2895480" y="1295280"/>
            <a:ext cx="2667240" cy="3048120"/>
            <a:chOff x="2895480" y="1295280"/>
            <a:chExt cx="2667240" cy="3048120"/>
          </a:xfrm>
        </p:grpSpPr>
        <p:sp>
          <p:nvSpPr>
            <p:cNvPr id="79" name="Oval 15"/>
            <p:cNvSpPr/>
            <p:nvPr/>
          </p:nvSpPr>
          <p:spPr>
            <a:xfrm>
              <a:off x="2895480" y="1295280"/>
              <a:ext cx="266724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133080" y="2054160"/>
              <a:ext cx="213408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Ti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7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83" name="Rectangle 14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2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25"/>
          <p:cNvGrpSpPr/>
          <p:nvPr/>
        </p:nvGrpSpPr>
        <p:grpSpPr>
          <a:xfrm>
            <a:off x="3886200" y="1295280"/>
            <a:ext cx="2362320" cy="3048120"/>
            <a:chOff x="3886200" y="1295280"/>
            <a:chExt cx="2362320" cy="3048120"/>
          </a:xfrm>
        </p:grpSpPr>
        <p:sp>
          <p:nvSpPr>
            <p:cNvPr id="90" name="Oval 15"/>
            <p:cNvSpPr/>
            <p:nvPr/>
          </p:nvSpPr>
          <p:spPr>
            <a:xfrm>
              <a:off x="38862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340160" y="1901880"/>
              <a:ext cx="145692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Do.wav" descr=""/>
          <p:cNvPicPr/>
          <p:nvPr/>
        </p:nvPicPr>
        <p:blipFill>
          <a:blip r:embed="rId2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2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2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94" name="Rectangle 13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3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4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4724280" y="1676520"/>
            <a:ext cx="2514600" cy="2971800"/>
            <a:chOff x="4724280" y="1676520"/>
            <a:chExt cx="2514600" cy="2971800"/>
          </a:xfrm>
        </p:grpSpPr>
        <p:sp>
          <p:nvSpPr>
            <p:cNvPr id="101" name="Oval 15"/>
            <p:cNvSpPr/>
            <p:nvPr/>
          </p:nvSpPr>
          <p:spPr>
            <a:xfrm>
              <a:off x="4724280" y="16765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5102280" y="220680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Re.wav" descr=""/>
          <p:cNvPicPr/>
          <p:nvPr/>
        </p:nvPicPr>
        <p:blipFill>
          <a:blip r:embed="rId2"/>
          <a:stretch/>
        </p:blipFill>
        <p:spPr>
          <a:xfrm>
            <a:off x="-5335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1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05" name="Rectangle 12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5486400" y="1295280"/>
            <a:ext cx="2362320" cy="3048120"/>
            <a:chOff x="5486400" y="1295280"/>
            <a:chExt cx="2362320" cy="3048120"/>
          </a:xfrm>
        </p:grpSpPr>
        <p:sp>
          <p:nvSpPr>
            <p:cNvPr id="111" name="Oval 15"/>
            <p:cNvSpPr/>
            <p:nvPr/>
          </p:nvSpPr>
          <p:spPr>
            <a:xfrm>
              <a:off x="54864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2" descr="C:\Users\Lee\Documents\Baby education resources\Music\solfege Mi image.gif"/>
            <p:cNvPicPr/>
            <p:nvPr/>
          </p:nvPicPr>
          <p:blipFill>
            <a:blip r:embed="rId1"/>
            <a:stretch/>
          </p:blipFill>
          <p:spPr>
            <a:xfrm>
              <a:off x="5864400" y="1798200"/>
              <a:ext cx="1609560" cy="20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Mi.wav" descr=""/>
          <p:cNvPicPr/>
          <p:nvPr/>
        </p:nvPicPr>
        <p:blipFill>
          <a:blip r:embed="rId2"/>
          <a:stretch/>
        </p:blipFill>
        <p:spPr>
          <a:xfrm>
            <a:off x="-30492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1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0"/>
          <p:cNvGrpSpPr/>
          <p:nvPr/>
        </p:nvGrpSpPr>
        <p:grpSpPr>
          <a:xfrm>
            <a:off x="533520" y="-304920"/>
            <a:ext cx="7238880" cy="6401160"/>
            <a:chOff x="533520" y="-304920"/>
            <a:chExt cx="7238880" cy="6401160"/>
          </a:xfrm>
        </p:grpSpPr>
        <p:sp>
          <p:nvSpPr>
            <p:cNvPr id="116" name="Rectangle 11"/>
            <p:cNvSpPr/>
            <p:nvPr/>
          </p:nvSpPr>
          <p:spPr>
            <a:xfrm>
              <a:off x="708660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2209680" y="-15228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533520" y="0"/>
              <a:ext cx="76176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3962520" y="-30492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562720" y="-228600"/>
              <a:ext cx="685800" cy="60962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23"/>
          <p:cNvGrpSpPr/>
          <p:nvPr/>
        </p:nvGrpSpPr>
        <p:grpSpPr>
          <a:xfrm>
            <a:off x="6248520" y="1371600"/>
            <a:ext cx="2514600" cy="3048120"/>
            <a:chOff x="6248520" y="1371600"/>
            <a:chExt cx="2514600" cy="3048120"/>
          </a:xfrm>
        </p:grpSpPr>
        <p:sp>
          <p:nvSpPr>
            <p:cNvPr id="123" name="Oval 15"/>
            <p:cNvSpPr/>
            <p:nvPr/>
          </p:nvSpPr>
          <p:spPr>
            <a:xfrm>
              <a:off x="6248520" y="1371600"/>
              <a:ext cx="251460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473880" y="2127600"/>
              <a:ext cx="2079000" cy="161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Fa.wav" descr=""/>
          <p:cNvPicPr/>
          <p:nvPr/>
        </p:nvPicPr>
        <p:blipFill>
          <a:blip r:embed="rId2"/>
          <a:stretch/>
        </p:blipFill>
        <p:spPr>
          <a:xfrm>
            <a:off x="-457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4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3-03T21:09:01Z</dcterms:modified>
  <cp:revision>116</cp:revision>
  <dc:subject/>
  <dc:title>Do</dc:title>
</cp:coreProperties>
</file>