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3C9-0FE4-447E-BE7A-B34F4DE35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B8A-E671-4630-BA4D-12DD53AFC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1D63-B22A-4225-9C53-F6D147CF8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A83-88BF-4D54-98D9-F4230D925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55F-9EC8-4141-AC93-57B256FF1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DC6-65AF-4B73-8035-45D88CE6B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15FB-DF0C-4E27-A292-E8054A89B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36A-83A8-46B6-BB21-7BB782597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2F4B-FF55-42ED-A7AC-0DA29AA08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A038-B731-4C04-B3BD-C0B7645B6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D57-743F-400B-9EBD-F394AFEC5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646-9755-4823-8A16-BB98188C1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2E7D-55A3-4A11-84F0-686B2B980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D40-DC3F-489D-A123-935A1C6F1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3B8-583D-46F8-BFC8-5F8EE1484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7F3B-5E0B-4414-8895-9F34D65F3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A0A-213E-419C-AECE-2FE2EE4A7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9C7F-CC43-4840-8F18-2912960A9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D54-2963-4642-A6E5-60E72A51D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DB8-FA14-451E-8D2F-EE8BE9912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0C8-95DB-498E-8FD7-F0C07C40A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D0C-96D8-48CF-9B2B-3D5EA029D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705A-EABA-415C-B048-BDE33747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7BDD-1401-4B9D-AEE1-E34E206F8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674-E1F8-44BD-93FC-E19764BC7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DAFC-F27B-441E-AA86-B0EF011DF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AABA-FEE4-4E21-BD83-29AB5CEA1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F29-FEEE-4526-9FC0-3CF3636A1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C7D3-EC41-4505-AB12-EA4F39854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2F5-4642-4D98-B9F6-067DA863B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F0B-ED8C-4625-92FB-CD024101C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32A7-D2AF-4FE9-BB1D-755823CAF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B0AC-9E7C-4CC8-AE69-3778B1D94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2DB-E0BF-4A80-9856-7937429C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783-4638-483C-BA3D-06EF6ACC6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B94D-1C9C-46C8-A540-E47C859BA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ED8-3BD2-4022-89AF-D4F8CADB4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E69F-DF7F-4D3B-8112-1E922EB10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1EC-0A88-447B-97D3-18E8C283A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ADED-29B5-4E63-93B8-D4A853C59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88F0-121C-4136-9F31-181B1FA6C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9575-E992-4C50-9F2C-FE8F1B224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174D-E100-4D2F-868B-781D307A6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61D-8D61-4F2F-993C-D9369A8E7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19B5-E29B-472D-8543-48449E167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35D-AF85-493C-8460-7FA81F2C9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61B-F857-467F-8931-3474C275C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FF3-EA72-4798-B96C-B149A17D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0E4-3988-4B5C-8829-9B64689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866-C8E0-4751-8B5F-2A6EDA79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697-57EC-46AB-A59D-D7D2A4B0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EBD-711C-4094-B5AF-21B06E3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73E-D42C-43B3-AFE8-CD4CD22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5D9-F298-4BE0-BAF3-AA2CDA27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3BA-13EB-4E5D-A0BA-35B2BF0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92A-7C96-4BF6-ABEC-A059F78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732-B8B0-45C3-8A39-F53D072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6C-90BA-4FAA-B3F3-14F1A3F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9C5-9953-4D7B-9431-1D33879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4324-4E81-4F70-BECE-4C3BE64DA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Jingle Bell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Sol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129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Preview image of file"/>
            <p:cNvPicPr/>
            <p:nvPr/>
          </p:nvPicPr>
          <p:blipFill>
            <a:blip r:embed="rId2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0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39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Do 1 second [v2].wav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5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4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Mi long.wav" descr=""/>
          <p:cNvPicPr/>
          <p:nvPr/>
        </p:nvPicPr>
        <p:blipFill>
          <a:blip r:embed="rId2"/>
          <a:stretch/>
        </p:blipFill>
        <p:spPr>
          <a:xfrm>
            <a:off x="-11430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82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review image of file"/>
          <p:cNvPicPr/>
          <p:nvPr/>
        </p:nvPicPr>
        <p:blipFill>
          <a:blip r:embed="rId2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0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Preview image of file"/>
          <p:cNvPicPr/>
          <p:nvPr/>
        </p:nvPicPr>
        <p:blipFill>
          <a:blip r:embed="rId2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191" name="Fa 2 seconds.wav" descr=""/>
          <p:cNvPicPr/>
          <p:nvPr/>
        </p:nvPicPr>
        <p:blipFill>
          <a:blip r:embed="rId2"/>
          <a:stretch/>
        </p:blipFill>
        <p:spPr>
          <a:xfrm>
            <a:off x="-7621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9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002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02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2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3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04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4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04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5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44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6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Re 2 seconds.wav" descr=""/>
          <p:cNvPicPr/>
          <p:nvPr/>
        </p:nvPicPr>
        <p:blipFill>
          <a:blip r:embed="rId2"/>
          <a:stretch/>
        </p:blipFill>
        <p:spPr>
          <a:xfrm>
            <a:off x="-14479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2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280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Sol 2 seconds.wav" descr=""/>
          <p:cNvPicPr/>
          <p:nvPr/>
        </p:nvPicPr>
        <p:blipFill>
          <a:blip r:embed="rId2"/>
          <a:stretch/>
        </p:blipFill>
        <p:spPr>
          <a:xfrm>
            <a:off x="-13716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5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0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02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0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8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002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Sol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362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Preview image of file"/>
            <p:cNvPicPr/>
            <p:nvPr/>
          </p:nvPicPr>
          <p:blipFill>
            <a:blip r:embed="rId2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4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372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Do 1 second [v2].wav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050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382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Re 1 second [v2].wav" descr=""/>
          <p:cNvPicPr/>
          <p:nvPr/>
        </p:nvPicPr>
        <p:blipFill>
          <a:blip r:embed="rId2"/>
          <a:stretch/>
        </p:blipFill>
        <p:spPr>
          <a:xfrm>
            <a:off x="-15238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44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Mi long.wav" descr=""/>
          <p:cNvPicPr/>
          <p:nvPr/>
        </p:nvPicPr>
        <p:blipFill>
          <a:blip r:embed="rId2"/>
          <a:stretch/>
        </p:blipFill>
        <p:spPr>
          <a:xfrm>
            <a:off x="-11430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182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Preview image of file"/>
          <p:cNvPicPr/>
          <p:nvPr/>
        </p:nvPicPr>
        <p:blipFill>
          <a:blip r:embed="rId2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004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Fa 1 second.wav" descr=""/>
          <p:cNvPicPr/>
          <p:nvPr/>
        </p:nvPicPr>
        <p:blipFill>
          <a:blip r:embed="rId1"/>
          <a:stretch/>
        </p:blipFill>
        <p:spPr>
          <a:xfrm>
            <a:off x="-83808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Preview image of file"/>
          <p:cNvPicPr/>
          <p:nvPr/>
        </p:nvPicPr>
        <p:blipFill>
          <a:blip r:embed="rId2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00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424" name="Fa 2 seconds.wav" descr=""/>
          <p:cNvPicPr/>
          <p:nvPr/>
        </p:nvPicPr>
        <p:blipFill>
          <a:blip r:embed="rId2"/>
          <a:stretch/>
        </p:blipFill>
        <p:spPr>
          <a:xfrm>
            <a:off x="-7621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98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002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02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8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463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Sol 1 second.wav" descr=""/>
          <p:cNvPicPr/>
          <p:nvPr/>
        </p:nvPicPr>
        <p:blipFill>
          <a:blip r:embed="rId2"/>
          <a:stretch/>
        </p:blipFill>
        <p:spPr>
          <a:xfrm>
            <a:off x="-60948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00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474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5" descr="Preview image of file"/>
            <p:cNvPicPr/>
            <p:nvPr/>
          </p:nvPicPr>
          <p:blipFill>
            <a:blip r:embed="rId1"/>
            <a:srcRect l="23752" t="7930" r="19584" b="3669"/>
            <a:stretch/>
          </p:blipFill>
          <p:spPr>
            <a:xfrm>
              <a:off x="3429000" y="1676160"/>
              <a:ext cx="1469160" cy="22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Sol 1 second.wav" descr=""/>
          <p:cNvPicPr/>
          <p:nvPr/>
        </p:nvPicPr>
        <p:blipFill>
          <a:blip r:embed="rId2"/>
          <a:stretch/>
        </p:blipFill>
        <p:spPr>
          <a:xfrm>
            <a:off x="-13716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004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Preview image of file"/>
          <p:cNvPicPr/>
          <p:nvPr/>
        </p:nvPicPr>
        <p:blipFill>
          <a:blip r:embed="rId1"/>
          <a:srcRect l="8067" t="27029" r="8579" b="8107"/>
          <a:stretch/>
        </p:blipFill>
        <p:spPr>
          <a:xfrm>
            <a:off x="2133720" y="2057400"/>
            <a:ext cx="2066760" cy="1600200"/>
          </a:xfrm>
          <a:prstGeom prst="rect">
            <a:avLst/>
          </a:prstGeom>
          <a:ln w="0">
            <a:noFill/>
          </a:ln>
        </p:spPr>
      </p:pic>
      <p:pic>
        <p:nvPicPr>
          <p:cNvPr id="486" name="Fa 1 second.wav" descr=""/>
          <p:cNvPicPr/>
          <p:nvPr/>
        </p:nvPicPr>
        <p:blipFill>
          <a:blip r:embed="rId2"/>
          <a:stretch/>
        </p:blipFill>
        <p:spPr>
          <a:xfrm>
            <a:off x="-10666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004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494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Picture 5" descr="Preview image of file"/>
            <p:cNvPicPr/>
            <p:nvPr/>
          </p:nvPicPr>
          <p:blipFill>
            <a:blip r:embed="rId1"/>
            <a:srcRect l="6899" t="6899" r="6899" b="10345"/>
            <a:stretch/>
          </p:blipFill>
          <p:spPr>
            <a:xfrm>
              <a:off x="60948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6" name="Re 1 second [v2]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44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50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Picture 5" descr="Preview image of file"/>
            <p:cNvPicPr/>
            <p:nvPr/>
          </p:nvPicPr>
          <p:blipFill>
            <a:blip r:embed="rId1"/>
            <a:srcRect l="31731" t="16417" r="27479" b="17909"/>
            <a:stretch/>
          </p:blipFill>
          <p:spPr>
            <a:xfrm>
              <a:off x="457200" y="2057400"/>
              <a:ext cx="14479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do long 2 seconds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212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Lee\Documents\Baby education resources\Music\solfege Mi image.gif"/>
          <p:cNvPicPr/>
          <p:nvPr/>
        </p:nvPicPr>
        <p:blipFill>
          <a:blip r:embed="rId1"/>
          <a:srcRect l="17781" t="8890" r="15557" b="4442"/>
          <a:stretch/>
        </p:blipFill>
        <p:spPr>
          <a:xfrm>
            <a:off x="1676520" y="18064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Mi 1 second.wav" descr=""/>
          <p:cNvPicPr/>
          <p:nvPr/>
        </p:nvPicPr>
        <p:blipFill>
          <a:blip r:embed="rId2"/>
          <a:stretch/>
        </p:blipFill>
        <p:spPr>
          <a:xfrm>
            <a:off x="-4572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Mi 2 seconds.wav" descr=""/>
          <p:cNvPicPr/>
          <p:nvPr/>
        </p:nvPicPr>
        <p:blipFill>
          <a:blip r:embed="rId2"/>
          <a:stretch/>
        </p:blipFill>
        <p:spPr>
          <a:xfrm>
            <a:off x="-6094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Mi 1 second.wav" descr=""/>
          <p:cNvPicPr/>
          <p:nvPr/>
        </p:nvPicPr>
        <p:blipFill>
          <a:blip r:embed="rId2"/>
          <a:stretch/>
        </p:blipFill>
        <p:spPr>
          <a:xfrm>
            <a:off x="-129528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6T14:27:13Z</dcterms:modified>
  <cp:revision>153</cp:revision>
  <dc:subject/>
  <dc:title>Do</dc:title>
</cp:coreProperties>
</file>