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CCD8-D6CE-474F-BE06-6FC8CD6E5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DA8-D088-4D02-8C37-2AB0D526D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BA5-05DE-43BE-8635-7EFE6F170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01EA-7073-4ACB-83BD-621BB5FB2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FE2-1A2E-4DD5-BBDD-A85C063BA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0FB-322A-4A0E-AB4C-3B4EC318D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C72C-18A3-4A92-B26B-309F51640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13C1-88AC-4A62-9643-6920FBCE9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D46-A558-46F6-B661-BF0490469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4187-D0E8-405A-BE07-0B3A0490D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C614-CE63-464B-9425-89C58271C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6C1-4E80-4CCA-ABD3-782891A02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4A04-DFFB-4550-A8EA-8D06F2B9A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50F-32D6-4934-90B3-8299F5656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98C5-1E78-462E-8CDD-B28889ACD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E7C3-518A-4EB6-A67A-84BA5A868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6B47-70F7-4BF3-9503-0DCDCA48C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19F4-C101-47AB-9B94-B455CC8BF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D126-1589-49E6-A7EF-5BF1DAE7F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ED08-066B-4D12-8B8B-BF95E0371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8036-9B5B-420F-BF51-2CAE9453B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8AF9-A816-4820-AE11-50BCDC4A1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2FBE-0D15-4262-AD95-0EC8B40E2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86EC-D8AF-430F-A841-F2F8628A0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9922-A41C-472C-B358-2820DDFD7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279C-84B3-4E08-B8A3-F424EA1A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3F16-D4FA-4279-B865-A4620FF7A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BE1-D9B6-4C89-A578-FF3D3C477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7003-758C-42C6-8993-DA5F4394A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0095-CD00-431B-ABB7-FD4A63BE4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B4F-E55B-4D81-8542-7DD6B62A9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85B5-A50D-4298-B746-5DCA15AA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FF94-DD44-48ED-8C35-23CE68B6A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E281-B37D-44F3-BC8E-E01025F2D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6A3-A4DD-4ABC-B756-2810A26C7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90E7-5B22-43E8-8ADD-E76BABF00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5BC-84A8-4077-A241-1DF415C3A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2399-93CA-41DF-9128-0B09DD6A5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C0B-8145-423B-AB0D-731E94EEC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342-C40A-4F1C-9E59-3BBA337A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08D-15D9-4327-A363-11D2F0E76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D664-A572-468E-B52D-AC2E05A14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A4A8-CF5C-4BE7-97B2-CEB384767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D56-7EA7-4EE3-B913-50514CBC3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5F48-5708-45DD-8C5E-BBCA6AF59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D91C-C6BA-47B8-A58A-BD0FABF70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E8C1-CEA0-448F-AF48-05D4CEF02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48A-C7C3-44AA-831B-A26676E6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F16-D9BD-4179-A0A3-0D9D4056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649-FFCD-48C0-B0E3-71517DA0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432-FE92-41FB-B1FF-E93349ED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777-E6A6-4AE9-8818-CC018A6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E60-5633-49C9-A24E-95A34A61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3DF-4FBF-4E9E-AE4F-DF831B8A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A01-EF56-467A-8887-E57D918F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81E-0BE8-4D79-AFC7-AB5365B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031-87EE-4AA7-BBBE-6BD367F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A7A-9292-475F-A8C5-61D0C02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F10-C26A-4539-A15F-27399B0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44C0-3583-4F1A-88C8-9735C1DD9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Jingle Bells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0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5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Mi long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1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85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88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0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91" name="Fa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9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00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00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8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04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04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04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4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Re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2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l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5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00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00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00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00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00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004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Do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05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44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Mi long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18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54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00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57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00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60" name="Fa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99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0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00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02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00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review image of file"/>
          <p:cNvPicPr/>
          <p:nvPr/>
        </p:nvPicPr>
        <p:blipFill>
          <a:blip r:embed="rId1"/>
          <a:stretch/>
        </p:blipFill>
        <p:spPr>
          <a:xfrm>
            <a:off x="2432160" y="225360"/>
            <a:ext cx="4127400" cy="4133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Sol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004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77933c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Preview image of file"/>
          <p:cNvPicPr/>
          <p:nvPr/>
        </p:nvPicPr>
        <p:blipFill>
          <a:blip r:embed="rId1"/>
          <a:stretch/>
        </p:blipFill>
        <p:spPr>
          <a:xfrm>
            <a:off x="2584440" y="-6480"/>
            <a:ext cx="4359240" cy="4334040"/>
          </a:xfrm>
          <a:prstGeom prst="rect">
            <a:avLst/>
          </a:prstGeom>
          <a:ln w="0">
            <a:noFill/>
          </a:ln>
        </p:spPr>
      </p:pic>
      <p:pic>
        <p:nvPicPr>
          <p:cNvPr id="178" name="Fa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00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review image of file"/>
          <p:cNvPicPr/>
          <p:nvPr/>
        </p:nvPicPr>
        <p:blipFill>
          <a:blip r:embed="rId1"/>
          <a:stretch/>
        </p:blipFill>
        <p:spPr>
          <a:xfrm>
            <a:off x="2279520" y="225360"/>
            <a:ext cx="4280040" cy="4280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Re 1 second [v2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44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review image of file"/>
          <p:cNvPicPr/>
          <p:nvPr/>
        </p:nvPicPr>
        <p:blipFill>
          <a:blip r:embed="rId1"/>
          <a:stretch/>
        </p:blipFill>
        <p:spPr>
          <a:xfrm>
            <a:off x="1974960" y="298440"/>
            <a:ext cx="5054400" cy="5121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66cc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do long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212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002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4f6228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604a7b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i 2 second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6800" y="225360"/>
            <a:ext cx="4431960" cy="4432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9933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i 1 second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00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18T20:24:23Z</dcterms:modified>
  <cp:revision>147</cp:revision>
  <dc:subject/>
  <dc:title>Do</dc:title>
</cp:coreProperties>
</file>