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7A2-2CCF-4B58-9FC3-535321FCF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14A-3FA6-453C-B310-AAE84FAFF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02D-BD2D-4FD4-A426-4EA426191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EF64-BAE2-4C11-9513-60969A6FE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CA1A-82DE-4B9C-8EEF-9C19A571C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B9C-D4EE-47D1-AE80-B001C52D6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F95-198B-4088-88D4-C6CCA890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85DA-A752-4126-ACEE-D4793B993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0BF1-CD4A-4697-B560-EACEE946C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76C5-7F58-4A23-9FE4-838BD6FCD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07C-4940-47DB-B414-900C3F4D6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92F-3A28-4B9C-84B7-C635A0E5B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A2A-8051-4C3E-8E40-530A40AB2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862E-FFD2-4072-A7F3-E39492C87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681-D556-477A-81E9-0678117D9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3C77-C344-461F-A233-56563C281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9191-35EC-4EE7-8427-0F680039D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6F4-5AAD-4D03-ACF4-D64DCD8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D78-9DAF-4823-AE0B-725B514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E37-59B6-40CB-9736-36735A3C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E79-386A-4A5A-98C4-BDBD664E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044-D860-4739-AFD6-D7B36525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BF3-B7A7-4F56-B8CF-79C7ED7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E12-A1EF-4977-9CAF-457078A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358-8508-472B-A475-1AF46FE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788-897B-46CD-86EF-8088F85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740-6714-43BC-ABF9-DD3F01A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723-8443-484C-BC2D-F75EC76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212-AB0E-44E6-BEE0-D63BD76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D95-316E-4099-BDD1-900076E1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Hot cross bun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27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5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76320" y="1600200"/>
            <a:ext cx="2209680" cy="29718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review image of file"/>
          <p:cNvPicPr/>
          <p:nvPr/>
        </p:nvPicPr>
        <p:blipFill>
          <a:blip r:embed="rId1"/>
          <a:stretch/>
        </p:blipFill>
        <p:spPr>
          <a:xfrm>
            <a:off x="450720" y="2054160"/>
            <a:ext cx="1463760" cy="2067120"/>
          </a:xfrm>
          <a:prstGeom prst="rect">
            <a:avLst/>
          </a:prstGeom>
          <a:ln w="0">
            <a:noFill/>
          </a:ln>
        </p:spPr>
      </p:pic>
      <p:pic>
        <p:nvPicPr>
          <p:cNvPr id="139" name="do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2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5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6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71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music abc mi_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219320" y="1295280"/>
            <a:ext cx="2361960" cy="3048120"/>
            <a:chOff x="1219320" y="1295280"/>
            <a:chExt cx="2361960" cy="3048120"/>
          </a:xfrm>
        </p:grpSpPr>
        <p:sp>
          <p:nvSpPr>
            <p:cNvPr id="183" name="Oval 15"/>
            <p:cNvSpPr/>
            <p:nvPr/>
          </p:nvSpPr>
          <p:spPr>
            <a:xfrm>
              <a:off x="12193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" descr="C:\Users\Lee\Documents\Baby education resources\Music\solfege Mi image.gif"/>
            <p:cNvPicPr/>
            <p:nvPr/>
          </p:nvPicPr>
          <p:blipFill>
            <a:blip r:embed="rId2"/>
            <a:stretch/>
          </p:blipFill>
          <p:spPr>
            <a:xfrm>
              <a:off x="1596960" y="1798200"/>
              <a:ext cx="1609200" cy="2097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6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192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2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6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do long 2 seconds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204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5" descr="Preview image of file"/>
            <p:cNvPicPr/>
            <p:nvPr/>
          </p:nvPicPr>
          <p:blipFill>
            <a:blip r:embed="rId2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usic abc mi_2.wav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Lee\Documents\Baby education resources\Music\solfege Mi image.gif"/>
          <p:cNvPicPr/>
          <p:nvPr/>
        </p:nvPicPr>
        <p:blipFill>
          <a:blip r:embed="rId2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67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do long 2 seconds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79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5" descr="Preview image of file"/>
            <p:cNvPicPr/>
            <p:nvPr/>
          </p:nvPicPr>
          <p:blipFill>
            <a:blip r:embed="rId2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1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6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4"/>
          <p:cNvGrpSpPr/>
          <p:nvPr/>
        </p:nvGrpSpPr>
        <p:grpSpPr>
          <a:xfrm>
            <a:off x="1219320" y="1371600"/>
            <a:ext cx="2361960" cy="3048120"/>
            <a:chOff x="1219320" y="1371600"/>
            <a:chExt cx="2361960" cy="3048120"/>
          </a:xfrm>
        </p:grpSpPr>
        <p:sp>
          <p:nvSpPr>
            <p:cNvPr id="89" name="Oval 15"/>
            <p:cNvSpPr/>
            <p:nvPr/>
          </p:nvSpPr>
          <p:spPr>
            <a:xfrm>
              <a:off x="1219320" y="137160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1596960" y="1822680"/>
              <a:ext cx="1609200" cy="20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6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99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0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1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685800" y="1219320"/>
            <a:ext cx="91440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116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5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0T14:15:56Z</dcterms:modified>
  <cp:revision>148</cp:revision>
  <dc:subject/>
  <dc:title>Do</dc:title>
</cp:coreProperties>
</file>