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F1F9-969C-4C1C-B5D6-D51F23D2C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978B-FE74-42CD-8280-8534079C1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3360-A4DC-45C9-B90E-574B10908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6820-00C4-4B1A-9BB7-E54ECAF88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3750-9791-4E66-8BCF-75F680686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80EE-23C5-4BED-B641-8A67BAD38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AD5A-CE37-4EFB-91EB-B01B7E4D6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A892-662B-4FAC-B13D-49D62DBA4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B45B-96AA-4C85-90AD-822FBF14C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53FE-0EDD-4D01-874F-F388987D9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0D3E-2585-4F81-AF1F-2B5AA754D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8E92-5AF5-41F7-9158-DFC68FBAF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D823-D7A0-4EB2-B0FD-A61F8D201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24E1-B0D9-4CDA-8989-30C8E268E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39E7-4082-4FAB-AC7C-78DDF1A99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6331-622C-4513-8FC1-7ACA6E3A9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2A23-A1E7-489B-9A0C-CAF1859D8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F35-30A7-48FD-888A-F46C2118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F64-00B2-4421-8430-4A40E77F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F4B-8177-4E56-A519-300B850D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9B3-8BE2-4AC8-ACEB-354EDF78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0AFB-8EB5-4AAD-9F3E-009868AB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AF7-41B3-408D-918F-2F660FCB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72C-6388-49F5-B7D6-D8967016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113-763B-4EF9-AF60-9CFBC4ED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A0D-CD7E-400D-AC55-993EFBFA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0D9-6308-4AF5-8C89-7AFF2FE4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AB9-AC2F-4CB3-ACA3-E92379D7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B88-FF8F-4A0D-ADF1-50ED129C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84CB-BF80-4A87-B0A6-B55062367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Calibri"/>
              </a:rPr>
              <a:t>Hot cross buns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review image of file"/>
          <p:cNvPicPr/>
          <p:nvPr/>
        </p:nvPicPr>
        <p:blipFill>
          <a:blip r:embed="rId1"/>
          <a:stretch/>
        </p:blipFill>
        <p:spPr>
          <a:xfrm>
            <a:off x="1981080" y="304920"/>
            <a:ext cx="5043600" cy="5105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Do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5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Preview image of file"/>
          <p:cNvPicPr/>
          <p:nvPr/>
        </p:nvPicPr>
        <p:blipFill>
          <a:blip r:embed="rId1"/>
          <a:stretch/>
        </p:blipFill>
        <p:spPr>
          <a:xfrm>
            <a:off x="1981080" y="304920"/>
            <a:ext cx="5043600" cy="51051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do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2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44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044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Re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2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music abc mi_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64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music abc re_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9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review image of file"/>
          <p:cNvPicPr/>
          <p:nvPr/>
        </p:nvPicPr>
        <p:blipFill>
          <a:blip r:embed="rId1"/>
          <a:stretch/>
        </p:blipFill>
        <p:spPr>
          <a:xfrm>
            <a:off x="1981080" y="304920"/>
            <a:ext cx="5043600" cy="5105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do long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212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music abc mi_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Re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2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review image of file"/>
          <p:cNvPicPr/>
          <p:nvPr/>
        </p:nvPicPr>
        <p:blipFill>
          <a:blip r:embed="rId1"/>
          <a:stretch/>
        </p:blipFill>
        <p:spPr>
          <a:xfrm>
            <a:off x="1981080" y="304920"/>
            <a:ext cx="5043600" cy="5105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do long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1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music abc mi_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6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e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2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Preview image of file"/>
          <p:cNvPicPr/>
          <p:nvPr/>
        </p:nvPicPr>
        <p:blipFill>
          <a:blip r:embed="rId1"/>
          <a:stretch/>
        </p:blipFill>
        <p:spPr>
          <a:xfrm>
            <a:off x="1981080" y="304920"/>
            <a:ext cx="5043600" cy="5105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do long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21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Preview image of file"/>
          <p:cNvPicPr/>
          <p:nvPr/>
        </p:nvPicPr>
        <p:blipFill>
          <a:blip r:embed="rId1"/>
          <a:stretch/>
        </p:blipFill>
        <p:spPr>
          <a:xfrm>
            <a:off x="1981080" y="304920"/>
            <a:ext cx="5043600" cy="5105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Do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05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2-07T16:10:37Z</dcterms:modified>
  <cp:revision>137</cp:revision>
  <dc:subject/>
  <dc:title>Do</dc:title>
</cp:coreProperties>
</file>